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8B4-1C22-47A8-87FE-E23CE923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444-A9C9-4AD3-B736-3805A917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011-5842-48C0-9565-892E89F7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7C9-E35C-409F-A69A-4B71B3D0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3D2-7F39-4A9A-8E0E-DFA10EEC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66F-F0A5-4BA6-8B6A-C1D0E84B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25E-E906-4506-87E8-00ED394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109-3DD3-4977-8360-AD560D9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156-85F4-4FA4-82F0-67227A63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18E-F718-441D-88D3-FE5ED23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BFE-BADD-427C-BFE0-C2920C4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1A5-CBCF-438B-A7C5-2F4CFBAE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B1F2-964F-4EC0-8534-3392128FAE6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09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5.20091112.p4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09-12-29T08:31:51Z</dcterms:modified>
  <cp:revision>85</cp:revision>
  <dc:subject/>
  <dc:title>投影片 1</dc:title>
</cp:coreProperties>
</file>